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02040" y="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-360" y="9410760"/>
            <a:ext cx="2981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071-C708-4C2D-99E0-C344ED8DCB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There is a very large variety of models. We can regroup them in Technical 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9C13-9864-49D6-BED7-9C20BABCA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F121-C20A-4B3B-A9E6-57BBF2B57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E3BE-EEA8-49D9-8745-144F20F0A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89E7-4A0E-4AE8-9390-375996887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32AB-A258-42EC-A109-7FC3B5E7B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CBA3-E7F8-4122-9EC7-80ECCC9C7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76F0-A192-4D08-913D-57C9D563A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DAE2-681F-4A67-BBE5-FD7021262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B2A3-6FD8-4ED9-A453-2354AEACB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4246-BAE7-4503-9FFC-7C9E4AD54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CE8C-950D-47E5-81D9-C82FD112F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84D3-D714-4216-8E66-01450468A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B70AF980-7F51-417A-9F80-7163FD46AF1E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lignment of ATL and QV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153200" y="6624720"/>
            <a:ext cx="19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Comic Sans MS"/>
              </a:rPr>
              <a:t>© 2006 ATLAS N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delware-ist.org/bb2Forum/index.ph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lignment of ATL and QV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, INRIA &amp;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585120"/>
            <a:ext cx="944640" cy="27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370F-86DA-4657-8B23-2B483AE34CA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37680" y="704520"/>
            <a:ext cx="8613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eterogeneity of data and schemas (modeling languages)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RDBM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XML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ORDBM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ER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ny others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eed for data translation between heterogeneous data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Need for declarative mappings for schema integration and query answering and transl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ata migration (kind of data translation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haracteristics of Data Engineering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DAB8-7509-4181-B6DA-3AACC286F7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for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2480" y="1163160"/>
            <a:ext cx="8458200" cy="42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incomplete list (consult the QVT specification)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Operates on MOF models (basically XMI-to-XMI transformation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upports bidirectiona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eclarative language (satisfied by Core and Relations language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hecking the presence of certain relations among model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C73C-E929-4EAB-9B5D-8A2A1F9E39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for AT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2000" y="838080"/>
            <a:ext cx="881532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ajor requirement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 ability to deal with various models expressed in different languages and technologi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Unification concept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verything is a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model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!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echnologies are unified by the concept of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Technical Spac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Heterogeneity is handled by the notion of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Technical Projector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Data translation between Technical Spaces is regarded as </a:t>
            </a: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Bridg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298D-378E-4DBC-9C89-85F5A470C5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alignment for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16080" y="1227240"/>
            <a:ext cx="8181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om the ATL perspective QVT solves transformational problems within the OMG/MDA Technical Sp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Without the concepts of Technical Projector and Bridging real interoperability problems cannot be solved (misses in QV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as a part of AMMA supports these concep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3DC0-8409-4770-8A10-6F5849A28C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rchitectural Alignment of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3360" y="1120680"/>
            <a:ext cx="84582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rchitecture: set of concepts and relations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lignment for the major components of ATL and QVT;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Major goal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Comic Sans MS"/>
              </a:rPr>
              <a:t>Achieving interoperability between ATL and QVT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A01E-9590-4022-B5C1-40E40713141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QVT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0760" y="875880"/>
            <a:ext cx="84582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ntains three DSLs that form layers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lations (declarative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re (declarative, simpler than Relations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perational Mappings (imperative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30320" y="3373560"/>
          <a:ext cx="710892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373560"/>
                    <a:ext cx="7108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D783-2C4D-45B4-9193-5CEAFD5EBD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formance Points for QVT Too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1360" y="766800"/>
          <a:ext cx="8728200" cy="4662360"/>
        </p:xfrm>
        <a:graphic>
          <a:graphicData uri="http://schemas.openxmlformats.org/drawingml/2006/table">
            <a:tbl>
              <a:tblPr/>
              <a:tblGrid>
                <a:gridCol w="1322280"/>
                <a:gridCol w="1405080"/>
                <a:gridCol w="1484280"/>
                <a:gridCol w="1482840"/>
                <a:gridCol w="1523880"/>
                <a:gridCol w="1509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operability 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ngu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yntax Exec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MI Exec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yntax Expor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MI Expor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49200" y="553392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te that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QVT conformance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is defined for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mic Sans MS"/>
              </a:rPr>
              <a:t>tools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. The term “QVT compliant language” is not defined in the sp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AF6C-9EA1-431C-8EF3-EC266486D4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rchitectur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12760" y="717480"/>
            <a:ext cx="86644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Comic Sans MS"/>
              </a:rPr>
              <a:t>Three</a:t>
            </a:r>
            <a:r>
              <a:rPr b="1" lang="en-US" sz="2900" spc="-1" strike="noStrike">
                <a:solidFill>
                  <a:srgbClr val="003366"/>
                </a:solidFill>
                <a:latin typeface="Comic Sans MS"/>
              </a:rPr>
              <a:t>-</a:t>
            </a:r>
            <a:r>
              <a:rPr b="0" lang="en-US" sz="2900" spc="-1" strike="noStrike">
                <a:solidFill>
                  <a:srgbClr val="003366"/>
                </a:solidFill>
                <a:latin typeface="Comic Sans MS"/>
              </a:rPr>
              <a:t>level architectur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692440" y="1562040"/>
          <a:ext cx="428796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562040"/>
                    <a:ext cx="428796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A0F3-1176-467F-8F8C-5614F0494C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1896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Component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3360" y="128592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MW (ATLAS Model Weaver): Generic metamodel for establishing links among model elements (metamodel for model weaving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ool for defining domain specific transformation language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: hybrid transformation language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mantics of AMW extensions may be defined by ATL transformation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32640" indent="-3326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VM: virtual machine for executing mode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9B46-9C56-478E-8060-568DD7DFF0C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Component Alignment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-34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n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40120" y="1545840"/>
            <a:ext cx="1260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4960" y="774720"/>
          <a:ext cx="8045640" cy="5302080"/>
        </p:xfrm>
        <a:graphic>
          <a:graphicData uri="http://schemas.openxmlformats.org/drawingml/2006/table">
            <a:tbl>
              <a:tblPr/>
              <a:tblGrid>
                <a:gridCol w="1327320"/>
                <a:gridCol w="2076480"/>
                <a:gridCol w="2307960"/>
                <a:gridCol w="2333880"/>
              </a:tblGrid>
              <a:tr h="38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V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traction Level of Transformation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, Operational 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nsformation Sce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 synchr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a a separate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ormance che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a a separate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 trans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, ATL, V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,  Operational Mapp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2A6A-C7B1-4EC7-B297-574F4101FC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text of this wor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present courseware has been elaborated in the context of the MODELWARE European  IST FP6 project (http://www.modelware-ist.org/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Co-funded by the European Commission, the MODELWARE project involves 19 partners from 8 European countries. MODELWARE aims to improve software productivity by capitalizing on techniques known as Model-Driven Development (MDD)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o achieve the goal of large-scale adoption of these MDD techniques, MODELWARE promotes the idea of a collaborative development of courseware dedicated to this domai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e MDD courseware provided here with the status of open source software is produced under the EPL 1.0 licens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7" name="" descr="www.modelware-ist.org Forum 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5240" y="247680"/>
            <a:ext cx="4838760" cy="13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43AA-86E9-4993-8291-8BE65352A87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Alignment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-34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n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27120" y="814320"/>
          <a:ext cx="7823160" cy="5159520"/>
        </p:xfrm>
        <a:graphic>
          <a:graphicData uri="http://schemas.openxmlformats.org/drawingml/2006/table">
            <a:tbl>
              <a:tblPr/>
              <a:tblGrid>
                <a:gridCol w="1200240"/>
                <a:gridCol w="2011320"/>
                <a:gridCol w="2292120"/>
                <a:gridCol w="23194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V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adi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cla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yb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e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ltidirec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direc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di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-to-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, AMW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erational Mappings, Relations and Core (in checkonly mo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-to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 and Core (in enforce mo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ce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utoma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er-spec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-plac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 (in refining mode),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, Core, Operational Mapp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3FF9-9A86-42F1-A5A6-0EF433532F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1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760" y="937800"/>
            <a:ext cx="8631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66"/>
                </a:solidFill>
                <a:uFillTx/>
                <a:latin typeface="Comic Sans MS"/>
              </a:rPr>
              <a:t>Interoperability</a:t>
            </a: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: executing programs written in one language with the tools designed for another languag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43000" y="2130480"/>
            <a:ext cx="863100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tivation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Execution and support too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ssume you have a wonderful language without engine and a not so nice language with execution engi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ompliance to standard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If QVT programs run on the ATL VM then the ATL VM is QVT conforma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DF69-7B2E-4996-A638-DE0DB494F26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1600" y="721800"/>
            <a:ext cx="8631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ramework for reasoning about interoperability among ATL and QVT componen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65120" y="1601640"/>
          <a:ext cx="6121440" cy="47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601640"/>
                    <a:ext cx="6121440" cy="47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CF31-81A6-4AFB-8A12-99819803E4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TL and QVT Interoperability (3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8040" y="1052640"/>
          <a:ext cx="8457480" cy="4952160"/>
        </p:xfrm>
        <a:graphic>
          <a:graphicData uri="http://schemas.openxmlformats.org/drawingml/2006/table">
            <a:tbl>
              <a:tblPr/>
              <a:tblGrid>
                <a:gridCol w="1491120"/>
                <a:gridCol w="1492200"/>
                <a:gridCol w="1491120"/>
                <a:gridCol w="1491120"/>
                <a:gridCol w="1246320"/>
                <a:gridCol w="124560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verse engine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M-to-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 compi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L-to-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re-to-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6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ons-to-C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47760" y="1068480"/>
            <a:ext cx="1468440" cy="8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0756-B476-4B83-BD0C-2D858004E73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lusion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400" y="742680"/>
            <a:ext cx="845820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and QVT have common features but their problem domains are different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QVT is mainly for software development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TL aims at solving data engineering transformation problems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rchitectural alignment between ATL and QVT shows that language interoperability is feasible via model transformation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tools may be called QVT conformant after the required transformations are provide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is interesting to generalize the framework for reasoning on ATL and QVT to other languag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F8A5-6BD1-4FE9-AD75-6886C088F79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8872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erequisit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 be able to understand this lecture, a reader should be familiar with the following concepts, languages, and standards: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del Driven Engineering (MDE)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The role of model transformations in MDE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QVT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ATL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Comic Sans MS"/>
              </a:rPr>
              <a:t>MOF</a:t>
            </a:r>
            <a:endParaRPr b="0" lang="en-US" sz="1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17FA-8219-44FB-ABB4-E3544BCB8D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utlin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760" y="988560"/>
            <a:ext cx="84582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Need for ATL and QVT alignmen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Requirements alignment of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rchitectural alignment of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QVT architectur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L architectur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ligning the architectural component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Achieving interoperability between ATL and QVT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nclusions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BAFE-19CC-4614-8AC2-679314D852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1896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DSL Perspective on MD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3360" y="1285920"/>
            <a:ext cx="845820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DE allows definition of small (and large) languages, focused on specific problems known as Domain Specific Languages (DSLs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ypical tasks in MDE also require DSLs: for example, model transformations and language defini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et of transformation languages exist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F111-73DF-459A-8F2E-DD4811A2F4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roblem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8160" y="99864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Language fragmentation (Babylon tower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Need for managing DSL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Multiple languages per problem domain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Problem domains often overlap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Need for choosing among DSL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Need for clear guidelines and knowledge for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Matching the problem domain and the available solutions (DSLs)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Explicit comparison among languages to allow selection of the right tool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FEC-2EB9-40D9-BB39-699C69C86E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ligning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3360" y="1120320"/>
            <a:ext cx="8458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Two model transformation languages for MDE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Solving the same problem (at first glance)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s that true?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726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Comic Sans MS"/>
              </a:rPr>
              <a:t>Comparing ATL and QVT:</a:t>
            </a:r>
            <a:endParaRPr b="0" lang="en-US" sz="29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 problem domain level: what problems can be solved, what are the requirements per language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t architectural level: components and major capabilities</a:t>
            </a: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DF13-EBC8-4E60-AED5-20DF1F8394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1760" y="1155600"/>
            <a:ext cx="8434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What are the problem domains of ATL and QVT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QVT is proposed in the context of OMG MDA approa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Targeted at 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TL requirements evolved towards solving interoperability problems in data engine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ay solve software development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Deals with heterogene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equirements Alignment of ATL and QV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F44B-62DF-4276-896B-38229920E0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haracteristics of Software Developmen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2440" y="795240"/>
            <a:ext cx="8470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nsformations are mainly refinement of models;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Models are expressed in a limited set of languages (e.g. UML)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Languages often share the same conceptual foundation: Object-Oriented Principles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ransformations should be semantic preserv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oftware development is iterative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hange propagation should be supported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paration of concerns: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Need for model composition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verse Engineer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Refactoring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A181-4515-4B84-843A-FE6558B9CB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Frédéric Jouault</dc:creator>
  <dc:description/>
  <dc:language>en-US</dc:language>
  <cp:lastModifiedBy>Kurtev</cp:lastModifiedBy>
  <dcterms:modified xsi:type="dcterms:W3CDTF">2006-07-17T11:31:30Z</dcterms:modified>
  <cp:revision>687</cp:revision>
  <dc:subject>Model transformation with ATL</dc:subject>
  <dc:title>Model transformation with AT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frederic.jouault@univ-nantes.fr</vt:lpwstr>
  </property>
  <property fmtid="{D5CDD505-2E9C-101B-9397-08002B2CF9AE}" pid="4" name="_AuthorEmailDisplayName">
    <vt:lpwstr>Frédéric Jouault</vt:lpwstr>
  </property>
  <property fmtid="{D5CDD505-2E9C-101B-9397-08002B2CF9AE}" pid="5" name="_ReviewingToolsShownOnce">
    <vt:lpwstr/>
  </property>
</Properties>
</file>